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7EB-D649-493B-B421-7EB411AE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3FF-D8D8-4E96-A061-D1EB3839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52A-EC40-441B-8725-13F44807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E0A-083E-419A-BE85-4E7E4814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A60D-8FDE-45CE-8755-554318B4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98BB-25AA-40B9-A129-06DF9794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592D-8018-4AE4-AAB3-A2962D48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E73B-4C6E-4436-B724-9B7EADB4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1CEB-0D9B-4491-BD3B-C452F40A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A428-D685-4681-8B60-D5150B78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34D0-C80B-4B3F-802D-59DDCB44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AD1-3B85-477F-8B95-91F8E016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82C7-CA82-41CB-92A4-A5683A07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0643-1364-4C07-8551-C323B14E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864E-1976-4A99-9C95-5D3028C8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9197-796A-40FA-9050-DE240ABC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12F8-DCA8-43B6-B750-0D19AE7F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7F5-6CAC-46C8-A267-42E77504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BE6-25EE-4FC0-856A-CCB2F5EA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B4C-F6F7-4685-B682-3BE5B472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8C6-38F9-4F72-9BB9-93CDE573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25B-869C-4C71-8140-7E309875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739-4FB3-47F9-A184-79C925A1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103-818D-4EBB-AE53-A1ADAF32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378E-58C5-43A6-81D4-B6E2C656E7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EACA-E7CA-45A8-B297-78019A57A79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dQQ6hOXqRw" TargetMode="External"/><Relationship Id="rId2" Type="http://schemas.openxmlformats.org/officeDocument/2006/relationships/hyperlink" Target="http://www.youtube.com/watch?v=8dQQ6hOXqRw" TargetMode="External"/><Relationship Id="rId3" Type="http://schemas.openxmlformats.org/officeDocument/2006/relationships/hyperlink" Target="http://www.youtube.com/watch?v=rvYZRskNV3w" TargetMode="External"/><Relationship Id="rId4" Type="http://schemas.openxmlformats.org/officeDocument/2006/relationships/hyperlink" Target="http://www.youtube.com/watch?v=rvYZRskNV3w" TargetMode="External"/><Relationship Id="rId5" Type="http://schemas.openxmlformats.org/officeDocument/2006/relationships/hyperlink" Target="http://www.youtube.com/watch?v=4JMOh-cul6M" TargetMode="External"/><Relationship Id="rId6" Type="http://schemas.openxmlformats.org/officeDocument/2006/relationships/hyperlink" Target="http://www.youtube.com/watch?v=4JMOh-cul6M" TargetMode="External"/><Relationship Id="rId7" Type="http://schemas.openxmlformats.org/officeDocument/2006/relationships/hyperlink" Target="http://www.youtube.com/watch?v=N5bSnGZlynM" TargetMode="External"/><Relationship Id="rId8" Type="http://schemas.openxmlformats.org/officeDocument/2006/relationships/hyperlink" Target="http://www.youtube.com/watch?v=N5bSnGZlynM" TargetMode="External"/><Relationship Id="rId9" Type="http://schemas.openxmlformats.org/officeDocument/2006/relationships/hyperlink" Target="http://www.youtube.com/watch?v=VFX-dKpcDz8&amp;feature=player_embedded" TargetMode="External"/><Relationship Id="rId10" Type="http://schemas.openxmlformats.org/officeDocument/2006/relationships/hyperlink" Target="http://www.youtube.com/watch?v=VFX-dKpcDz8&amp;feature=player_embedded" TargetMode="External"/><Relationship Id="rId11" Type="http://schemas.openxmlformats.org/officeDocument/2006/relationships/hyperlink" Target="http://www.youtube.com/show/knowyourmeme?s=2008" TargetMode="External"/><Relationship Id="rId12" Type="http://schemas.openxmlformats.org/officeDocument/2006/relationships/hyperlink" Target="http://www.youtube.com/watch?v=zAKdn2wd0UY&amp;feature=player_embedded" TargetMode="External"/><Relationship Id="rId13" Type="http://schemas.openxmlformats.org/officeDocument/2006/relationships/hyperlink" Target="http://www.youtube.com/watch?v=zAKdn2wd0UY&amp;feature=player_embedded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nternet M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7400" y="30481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29"/>
                </a:solidFill>
                <a:latin typeface="Arial"/>
              </a:rPr>
              <a:t>Iphone vs. Blackber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0" y="52578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92929"/>
                </a:solidFill>
                <a:latin typeface="Arial"/>
              </a:rPr>
              <a:t>By: Lucas Buzanic, Samantha Vanderklei &amp; Myron Zha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our Meme 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tchy through loop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relatable topi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nergy between two different ide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ur Meme…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Iphone vs. Blackberry Street Fighter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http://www.youtube.com/watch?v=zkGawnjUHJ8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724280" cy="3903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m for Improvement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040" y="19051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ost it more in advan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pend time on editing the overall vide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ich would you cho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638680" cy="4027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at is a m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29"/>
                </a:solidFill>
                <a:latin typeface="Arial"/>
              </a:rPr>
              <a:t>Cultural idea, practice or symbol that are passed on from one person to the next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29"/>
                </a:solidFill>
                <a:latin typeface="Arial"/>
              </a:rPr>
              <a:t>Its an idea that is like a gene, that can be replicated &amp; evolv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hort videos, an altered image, video clip, animation, website… with violence, discrimination, idiocy, nudity and cute animals are intriguing to peop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.g. Epic fails, FML, people doing worst than others,textfromlastnight.co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Meme Research/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How can she SLAP?! : the movi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://www.youtube.com/watch?v=8dQQ6hOXqRw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This is Sparta! Last techno remix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http</a:t>
            </a: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://www.youtube.com/watch?v=rvYZRskNV3w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My New Haircu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http</a:t>
            </a: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://www.youtube.com/watch?v=4JMOh-cul6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LOL Cats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http</a:t>
            </a: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://www.youtube.com/watch?v=N5bSnGZlyn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George Bush shoe attack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http</a:t>
            </a: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://www.youtube.com/watch?v=VFX-dKpcDz8&amp;feature=player_embedd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Know Your Meme</a:t>
            </a:r>
            <a:r>
              <a:rPr b="0" lang="en-US" sz="1200" spc="-1" strike="noStrike" u="sng">
                <a:solidFill>
                  <a:srgbClr val="292929"/>
                </a:solidFill>
                <a:uFillTx/>
                <a:latin typeface="Arial"/>
              </a:rPr>
              <a:t>: Know Your Meme: Iraqi Shoe Tos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http</a:t>
            </a: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://www.youtube.com/watch?v=zAKdn2wd0UY&amp;feature=player_embedd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Know Your Meme: Know Your Meme: Peanut Butter Jelly Tim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http://www.youtube.com/watch?v=ym8D0EELSZ4&amp;feature=player_embedd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rther 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434120" cy="285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774960" cy="4800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609480" y="4724280"/>
            <a:ext cx="4451400" cy="162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Forms of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Writ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Speech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Gestur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Visua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ont’d Forms of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More importantly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The INTERN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29"/>
                </a:solidFill>
                <a:latin typeface="Arial"/>
              </a:rPr>
              <a:t>Has been a main source of exchanging information between individua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29"/>
                </a:solidFill>
                <a:latin typeface="Arial"/>
              </a:rPr>
              <a:t>Information is passed from one person to the next within secon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nternet A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Faceboo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Email Distribu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Youtub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Foru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Wikispa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Virtual World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5667480" cy="3629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5488200" cy="3657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3348000" cy="3423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3429000" y="914400"/>
            <a:ext cx="5438880" cy="128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5257800" y="152280"/>
            <a:ext cx="327816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Meme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Comparison between the leading competitors in Cellular phon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29"/>
                </a:solidFill>
                <a:latin typeface="Arial"/>
              </a:rPr>
              <a:t>Specs, design, key selling poi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Street Fighter vide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29"/>
                </a:solidFill>
                <a:latin typeface="Arial"/>
              </a:rPr>
              <a:t>Keeps your focus as a visual </a:t>
            </a:r>
            <a:r>
              <a:rPr b="0" i="1" lang="en-CA" sz="2800" spc="-1" strike="noStrike">
                <a:solidFill>
                  <a:srgbClr val="292929"/>
                </a:solidFill>
                <a:latin typeface="Arial"/>
              </a:rPr>
              <a:t>Battle </a:t>
            </a:r>
            <a:r>
              <a:rPr b="0" lang="en-CA" sz="2800" spc="-1" strike="noStrike">
                <a:solidFill>
                  <a:srgbClr val="292929"/>
                </a:solidFill>
                <a:latin typeface="Arial"/>
              </a:rPr>
              <a:t>between Ryu &amp; Bison/Iphone &amp; Blackber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22:01:23Z</dcterms:created>
  <dc:creator>s2vande</dc:creator>
  <dc:description/>
  <dc:language>en-US</dc:language>
  <cp:lastModifiedBy>Sheridan Sheridan</cp:lastModifiedBy>
  <dcterms:modified xsi:type="dcterms:W3CDTF">2010-11-18T22:43:06Z</dcterms:modified>
  <cp:revision>22</cp:revision>
  <dc:subject/>
  <dc:title>Internet Meme</dc:title>
</cp:coreProperties>
</file>